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969-2D09-4CB8-9C9E-A0EA3D9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5EF-4433-4E63-B144-5AB97DD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950-154F-436C-AB9F-9887337F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076-F024-42EB-AEB6-E7F0FEAA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B37-E46A-4956-9483-34D79988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63E-7F2A-4C4E-85A0-3F6553F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DF0-71B3-4054-A242-EBD2049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B11-6427-4957-8E16-C2A92A9B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053-52DD-4854-BD44-CF371B4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7CA-BD68-4C19-9288-6FBEB0FD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E18-24D3-4B6B-9FD6-6B286E5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FDC-D8D8-4FB3-8191-F2375E5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4CD8-4125-416F-8135-1F760D130C5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cc00"/>
                </a:solidFill>
                <a:latin typeface="Tahoma"/>
              </a:rPr>
              <a:t>FUNCIÓN DE EXCRECIÓN 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sistexcretor05"/>
          <p:cNvPicPr/>
          <p:nvPr/>
        </p:nvPicPr>
        <p:blipFill>
          <a:blip r:embed="rId1"/>
          <a:stretch/>
        </p:blipFill>
        <p:spPr>
          <a:xfrm>
            <a:off x="3635280" y="2708280"/>
            <a:ext cx="2055960" cy="338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FUNCIONES DEL SISTEMA EXCRETOR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Cuando hablamos de excreción, siempre pensamos en la eliminación de productos de desecho. Esta sin embargo, es sólo una de sus funcion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La excreción es además, un </a:t>
            </a: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stema regulador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 del medio interno; es decir, determina la cantidad de agua y de sales que hay en el organismo en cada mo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Expulsa el exceso de ellas de modo que se mantenga constante la composición química y el volumen del medio interno (homeostasis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Así es como los organismos vivos aseguran su supervivencia frente a las variaciones ambient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EXCRETO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istema o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parato excret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 el encargado de eliminar las sustancias tóxicas y los desechos de nuestro organism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sistem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xcreto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tá formado por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para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urinario, los pulmones y la pi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ccff"/>
                </a:solidFill>
                <a:latin typeface="Tahoma"/>
              </a:rPr>
              <a:t>VÍD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730872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través de  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rteria renal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lega a los riñones la sangre cargada de sustancias tóxicas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ntro de los riñones, la sangre recorre una extensa red de pequeños capilares que funcionan como filtros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esta forma, los desechos que transporta la sangre quedan retenidos en el riñón y se forma 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r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sistexcretor03"/>
          <p:cNvPicPr/>
          <p:nvPr/>
        </p:nvPicPr>
        <p:blipFill>
          <a:blip r:embed="rId1"/>
          <a:stretch/>
        </p:blipFill>
        <p:spPr>
          <a:xfrm>
            <a:off x="4572000" y="2479680"/>
            <a:ext cx="43210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orin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 un líquido amarillento compuesto por agua, sales minerales y sustancias tóxicas para el organismo como la urea y el ácido úr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uego la orina pasa a través de las vías ur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vías urinari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tán formadas por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réteres, la vejiga y la uret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uréter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n dos tubos que salen uno de cada riñón y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n a parar a la vejiga urinaria.  Por ellos circula la orina formada en los riñ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PARATO URINARIO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402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ejiga urinari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olsa de paredes elásticas que almacena la orina hasta el momento de la expulsión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 que la orina no salga continuamente, existe un músculo llamad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fínter,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cierra la veji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sangre sale del riñón mediante la vena renal.  Ya no contiene urea ni ácido úrico, pero todavía tiene dióxido de carbono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sistexcretor02"/>
          <p:cNvPicPr/>
          <p:nvPr/>
        </p:nvPicPr>
        <p:blipFill>
          <a:blip r:embed="rId1"/>
          <a:stretch/>
        </p:blipFill>
        <p:spPr>
          <a:xfrm>
            <a:off x="4967280" y="1628640"/>
            <a:ext cx="35607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A PI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hace mucho calor, sudamos para enfriar el cuerpo y eliminar las sustancias tóxicas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antidad de sudor que excretamos en un día es variable, aunque normalmente la cantidad aproximada es de medio lit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OR LA PIEL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ud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es un líquido claro, de sabor salado, compuesto por agua y sales miner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antidad y composición del sudor no siempre es la misma ya que está regulado por el sistema nervi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OR LA PIEL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sudor se produce en la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lándulas sudorípar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que están situadas en la piel de todo el cuerpo, especialmente en la frente, en la palma de las manos, en la planta de los pies, en las axilas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uego, sale al exterior a través de unos orificios de la piel llamados por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5" descr="sistexcretor01"/>
          <p:cNvPicPr/>
          <p:nvPr/>
        </p:nvPicPr>
        <p:blipFill>
          <a:blip r:embed="rId1"/>
          <a:stretch/>
        </p:blipFill>
        <p:spPr>
          <a:xfrm>
            <a:off x="5003640" y="3645000"/>
            <a:ext cx="2718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XCRECIÓN PULMON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es poner el oxigeno aspirado, a través de la nariz, en contacto con la sangre y a través de ella con los teji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dióxido de carbono producido, como desecho metabólico, se elimina de la sangre en los pulmones y sale al exterior a través de las fosas nasales o la bo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pulmones1"/>
          <p:cNvPicPr/>
          <p:nvPr/>
        </p:nvPicPr>
        <p:blipFill>
          <a:blip r:embed="rId1"/>
          <a:stretch/>
        </p:blipFill>
        <p:spPr>
          <a:xfrm>
            <a:off x="4788000" y="2276640"/>
            <a:ext cx="4176720" cy="32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4:08:10Z</dcterms:created>
  <dc:creator>Francisco</dc:creator>
  <dc:description/>
  <dc:language>en-US</dc:language>
  <cp:lastModifiedBy>inma</cp:lastModifiedBy>
  <dcterms:modified xsi:type="dcterms:W3CDTF">2015-01-26T17:51:20Z</dcterms:modified>
  <cp:revision>24</cp:revision>
  <dc:subject/>
  <dc:title>APARATO EXCRETOR.</dc:title>
</cp:coreProperties>
</file>